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E3D9-C909-4CB8-B85A-6BA8F99EF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0726-AE97-481E-91E3-913173EA5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7D98-0BDF-46D2-8A9A-C95558CD1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EFF5-73A4-4743-94D8-51AEDECC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CE4B-F2DE-4A4F-A245-B02BD90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6D57-9990-4F7E-A32E-1100BDCCA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76ACD-4440-4E46-A0C9-59BED0000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86A83-F238-4D13-8B1F-0532011F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58CC0-9823-4583-A986-CE9378A7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C454C-4005-4375-98CF-E3F0D3F7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536DE-7D4E-4023-8F52-DD4CE790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2A09E-F258-4CCC-8390-BD69EE00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6BCFC-23FD-4BE1-A6EF-EEDBDB0F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8EAC-450F-4AD2-9399-96BD01F1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5033E-301C-42AE-958E-B74E03A6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C1854-B316-4B2A-9AB6-46270C3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AA2A-299B-42AE-A453-77C08318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9DB05-8267-4BDC-B8AD-C2C9D17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1598A-F3AD-4204-9752-81016BAA0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391F-B334-4F99-B0F4-D93FAA3A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2B6D-0BDD-4937-8377-36378252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6BFC-3100-41A4-83E2-2A00118A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E459-86F1-45A7-A087-34DB4D27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03B1-98FA-4369-AFEE-1DD4F9B2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3C69-6226-44D8-B053-F8594DC1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058D-D9C3-408C-99CB-BBD895B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47F-BE31-4587-AA9C-B7418DAD78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6CD8-42F3-402A-AE74-DF53C30ED8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0" r="18374" b="0"/>
          <a:stretch/>
        </p:blipFill>
        <p:spPr>
          <a:xfrm>
            <a:off x="214200" y="704880"/>
            <a:ext cx="8929800" cy="615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 rot="16200000">
            <a:off x="95040" y="680400"/>
            <a:ext cx="5605560" cy="579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17440" y="5516640"/>
            <a:ext cx="1069920" cy="74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179280" y="1717560"/>
            <a:ext cx="7274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Financial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Month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ir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ef Finan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iginal financial target for 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927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us’ Sustainability funding recei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509k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financial targ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418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"/>
          <p:cNvSpPr/>
          <p:nvPr/>
        </p:nvSpPr>
        <p:spPr>
          <a:xfrm>
            <a:off x="6545160" y="26370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-Point Star 5"/>
          <p:cNvSpPr/>
          <p:nvPr/>
        </p:nvSpPr>
        <p:spPr>
          <a:xfrm>
            <a:off x="7956720" y="3500280"/>
            <a:ext cx="287280" cy="231840"/>
          </a:xfrm>
          <a:custGeom>
            <a:avLst/>
            <a:gdLst/>
            <a:ahLst/>
            <a:rect l="l" t="t" r="r" b="b"/>
            <a:pathLst>
              <a:path w="288032" h="231867">
                <a:moveTo>
                  <a:pt x="0" y="88565"/>
                </a:moveTo>
                <a:lnTo>
                  <a:pt x="110019" y="88566"/>
                </a:lnTo>
                <a:lnTo>
                  <a:pt x="144016" y="0"/>
                </a:lnTo>
                <a:lnTo>
                  <a:pt x="178013" y="88566"/>
                </a:lnTo>
                <a:lnTo>
                  <a:pt x="288032" y="88565"/>
                </a:lnTo>
                <a:lnTo>
                  <a:pt x="199024" y="143301"/>
                </a:lnTo>
                <a:lnTo>
                  <a:pt x="233023" y="231866"/>
                </a:lnTo>
                <a:lnTo>
                  <a:pt x="144016" y="177129"/>
                </a:lnTo>
                <a:lnTo>
                  <a:pt x="55009" y="231866"/>
                </a:lnTo>
                <a:lnTo>
                  <a:pt x="89008" y="143301"/>
                </a:lnTo>
                <a:lnTo>
                  <a:pt x="0" y="885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717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continued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1,183k sur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ical adjustments ‘added back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1,575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against targ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392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we hit our tar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5"/>
          <p:cNvSpPr/>
          <p:nvPr/>
        </p:nvSpPr>
        <p:spPr>
          <a:xfrm>
            <a:off x="6770520" y="3435480"/>
            <a:ext cx="346320" cy="314280"/>
          </a:xfrm>
          <a:custGeom>
            <a:avLst/>
            <a:gdLst/>
            <a:ahLst/>
            <a:rect l="l" t="t" r="r" b="b"/>
            <a:pathLst>
              <a:path w="344812" h="313349">
                <a:moveTo>
                  <a:pt x="0" y="119688"/>
                </a:moveTo>
                <a:lnTo>
                  <a:pt x="131707" y="119689"/>
                </a:lnTo>
                <a:lnTo>
                  <a:pt x="172406" y="0"/>
                </a:lnTo>
                <a:lnTo>
                  <a:pt x="213105" y="119689"/>
                </a:lnTo>
                <a:lnTo>
                  <a:pt x="344812" y="119688"/>
                </a:lnTo>
                <a:lnTo>
                  <a:pt x="238258" y="193660"/>
                </a:lnTo>
                <a:lnTo>
                  <a:pt x="278959" y="313348"/>
                </a:lnTo>
                <a:lnTo>
                  <a:pt x="172406" y="239376"/>
                </a:lnTo>
                <a:lnTo>
                  <a:pt x="65853" y="313348"/>
                </a:lnTo>
                <a:lnTo>
                  <a:pt x="106554" y="193660"/>
                </a:lnTo>
                <a:lnTo>
                  <a:pt x="0" y="1196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2462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1741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15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Total Target m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y costs £1.59m compared to £2.2m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Improvement Programme - £2.5m saved against £3.7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spend £5.9m spend in line with Trust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11040" y="234792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55680" y="4653000"/>
            <a:ext cx="64764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255600" y="3716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 Louise</dc:creator>
  <dc:description/>
  <dc:language>en-US</dc:language>
  <cp:lastModifiedBy>Wilson Claire (RBQ)</cp:lastModifiedBy>
  <cp:lastPrinted>2014-02-19T14:11:01Z</cp:lastPrinted>
  <dcterms:modified xsi:type="dcterms:W3CDTF">2017-05-31T17:36:27Z</dcterms:modified>
  <cp:revision>264</cp:revision>
  <dc:subject/>
  <dc:title>Chief Executive’s  Team Brief or longer heading</dc:title>
</cp:coreProperties>
</file>